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F025-157A-4FA5-B7E4-43AF3712D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F8B7-366E-4039-B6F4-A8C190533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6A95-A69B-486A-B1D5-C40C26AC5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9664-7143-4259-89A9-E93056A7F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CF923-AC81-4741-B524-600E70C6A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BEA0F-27A0-4F14-8D36-74ECC251C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0445C-6B7B-48D7-A4A3-EC0096E25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DCFBD-F540-4B13-BEB2-23BF1B138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44F97-EF5D-45B0-8565-37B7FC18A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DA3A3-6469-4E1F-BC81-FA4014EC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C1914-4B9A-4553-AE06-0C1E6191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008C-A102-4449-9CAB-14512C5F5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D376D-B065-4D30-8D4C-19582757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C54C9-AFF6-4CB5-914B-59BE9716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D35D0-4907-451D-B893-BCD9FD96B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79E5F-FFB4-4CF6-B4DD-069A4009E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62B9F-078F-4A67-BD09-070C93650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8D93-8B96-4DFB-8104-2B39D2557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6EB3-8C66-4B8B-AE17-6C54DC00E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AB27-BA15-4760-B773-261D32A9D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AFC6-7851-49D6-A817-42AF3691C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A3CC-3F10-4434-91C7-ACEAFAEC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E72C-3812-434C-80CA-7E5AC792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4658-D491-4B82-8447-869DE568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412F7-A88C-409D-AEF6-FAADE5F5AD7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DE081-BECD-4A8C-8F16-22BCE57BA0E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pc.chemie.uni-siegen.de/pci/versuche/pics/exo4.jpg&amp;imgrefurl=http://www.pc.chemie.uni-siegen.de/pci/versuche/english/v41-1.html&amp;h=272&amp;w=368&amp;sz=11&amp;tbnid=s4nAzUik1GUJ:&amp;tbnh=87&amp;tbnw=118&amp;start=1&amp;prev=/images%3Fq%3D%252Bexothermic%26hl%3Den%26lr%3D%26sa%3D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609480" y="762120"/>
            <a:ext cx="784872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Thermodynamic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Sign of </a:t>
            </a:r>
            <a:r>
              <a:rPr b="1" lang="en-US" sz="40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1" i="1" lang="en-US" sz="4000" spc="-1" strike="noStrike">
                <a:solidFill>
                  <a:srgbClr val="ffffcc"/>
                </a:solidFill>
                <a:latin typeface="Tahoma"/>
              </a:rPr>
              <a:t>H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040360" y="1600200"/>
          <a:ext cx="3254400" cy="21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0360" y="1600200"/>
                    <a:ext cx="3254400" cy="21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380880" y="1828800"/>
          <a:ext cx="8382240" cy="4267080"/>
        </p:xfrm>
        <a:graphic>
          <a:graphicData uri="http://schemas.openxmlformats.org/drawingml/2006/table">
            <a:tbl>
              <a:tblPr/>
              <a:tblGrid>
                <a:gridCol w="1447920"/>
                <a:gridCol w="3429000"/>
                <a:gridCol w="3505320"/>
              </a:tblGrid>
              <a:tr h="213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i="1" lang="en-US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66cc"/>
                          </a:solidFill>
                          <a:latin typeface="Tahoma"/>
                        </a:rPr>
                        <a:t>Exothermic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avors spontaneity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3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i="1" lang="en-US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66ccff"/>
                          </a:solidFill>
                          <a:latin typeface="Tahoma"/>
                        </a:rPr>
                        <a:t>Endothermic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oes not favor spontaneity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ntrop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= a measure of the amount of disorder in a system (randomnes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t is natural for things to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become more disordered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, and takes energy to make things ordered aga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Tahoma"/>
              </a:rPr>
              <a:t>rxn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= [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]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ahoma"/>
              </a:rPr>
              <a:t>product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-  [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]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ahoma"/>
              </a:rPr>
              <a:t>reacta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olids have </a:t>
            </a:r>
            <a:r>
              <a:rPr b="1" lang="en-US" sz="2800" spc="-1" strike="noStrike">
                <a:solidFill>
                  <a:srgbClr val="91c94d"/>
                </a:solidFill>
                <a:latin typeface="Tahoma"/>
              </a:rPr>
              <a:t>low </a:t>
            </a:r>
            <a:r>
              <a:rPr b="1" lang="en-US" sz="2800" spc="-1" strike="noStrike">
                <a:solidFill>
                  <a:srgbClr val="91c94d"/>
                </a:solidFill>
                <a:latin typeface="Symbol"/>
                <a:ea typeface="Symbol"/>
              </a:rPr>
              <a:t></a:t>
            </a:r>
            <a:r>
              <a:rPr b="1" i="1" lang="en-US" sz="2800" spc="-1" strike="noStrike">
                <a:solidFill>
                  <a:srgbClr val="91c94d"/>
                </a:solidFill>
                <a:latin typeface="Tahoma"/>
              </a:rPr>
              <a:t>S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;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gases have </a:t>
            </a:r>
            <a:r>
              <a:rPr b="1" lang="en-US" sz="2800" spc="-1" strike="noStrike">
                <a:solidFill>
                  <a:srgbClr val="91c94d"/>
                </a:solidFill>
                <a:latin typeface="Tahoma"/>
              </a:rPr>
              <a:t>high </a:t>
            </a:r>
            <a:r>
              <a:rPr b="1" lang="en-US" sz="2800" spc="-1" strike="noStrike">
                <a:solidFill>
                  <a:srgbClr val="91c94d"/>
                </a:solidFill>
                <a:latin typeface="Symbol"/>
                <a:ea typeface="Symbol"/>
              </a:rPr>
              <a:t></a:t>
            </a:r>
            <a:r>
              <a:rPr b="1" i="1" lang="en-US" sz="2800" spc="-1" strike="noStrike">
                <a:solidFill>
                  <a:srgbClr val="91c94d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ntrop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714384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Sign of </a:t>
            </a:r>
            <a:r>
              <a:rPr b="1" lang="en-US" sz="40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1" i="1" lang="en-US" sz="4000" spc="-1" strike="noStrike">
                <a:solidFill>
                  <a:srgbClr val="ffffcc"/>
                </a:solidFill>
                <a:latin typeface="Tahoma"/>
              </a:rPr>
              <a:t>S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040360" y="1600200"/>
          <a:ext cx="3254400" cy="21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0360" y="1600200"/>
                    <a:ext cx="3254400" cy="21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685800" y="1828800"/>
          <a:ext cx="7772400" cy="4267080"/>
        </p:xfrm>
        <a:graphic>
          <a:graphicData uri="http://schemas.openxmlformats.org/drawingml/2006/table">
            <a:tbl>
              <a:tblPr/>
              <a:tblGrid>
                <a:gridCol w="1371600"/>
                <a:gridCol w="3048120"/>
                <a:gridCol w="3352680"/>
              </a:tblGrid>
              <a:tr h="213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re disorder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avors spontaneity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3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re order (less disorder)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oes not favor spontaneity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ntropy Proble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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Tahoma"/>
              </a:rPr>
              <a:t>rxn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= [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]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ahoma"/>
              </a:rPr>
              <a:t>products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-  [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]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ahoma"/>
              </a:rPr>
              <a:t>reacta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ahoma"/>
              </a:rPr>
              <a:t>4(l)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+  2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ahoma"/>
              </a:rPr>
              <a:t>2(l)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N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ahoma"/>
              </a:rPr>
              <a:t>2(g)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+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4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ahoma"/>
              </a:rPr>
              <a:t>(g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(-121.2J/K) +  2(-109.6J/K)  +  191.61J/K  +  4(188.8J/K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609480" y="3657600"/>
            <a:ext cx="7772400" cy="26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1c94d"/>
                </a:solidFill>
                <a:latin typeface="Tahoma"/>
              </a:rPr>
              <a:t>NOTE:  Since we know it’s </a:t>
            </a:r>
            <a:r>
              <a:rPr b="1" lang="en-US" sz="2400" spc="-1" strike="noStrike">
                <a:solidFill>
                  <a:srgbClr val="91c94d"/>
                </a:solidFill>
                <a:latin typeface="Tahoma"/>
              </a:rPr>
              <a:t>Products Minus Reactants</a:t>
            </a:r>
            <a:r>
              <a:rPr b="1" lang="en-US" sz="1800" spc="-1" strike="noStrike">
                <a:solidFill>
                  <a:srgbClr val="91c94d"/>
                </a:solidFill>
                <a:latin typeface="Tahoma"/>
              </a:rPr>
              <a:t>, we’ve already changed the signs of the reactan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S = +606.4 J/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c94d"/>
                </a:solidFill>
                <a:latin typeface="Tahoma"/>
              </a:rPr>
              <a:t>A high positive value would be expected when solids turn to liquids or liquids turn to gas since +</a:t>
            </a:r>
            <a:r>
              <a:rPr b="1" lang="en-US" sz="2400" spc="-1" strike="noStrike">
                <a:solidFill>
                  <a:srgbClr val="91c94d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91c94d"/>
                </a:solidFill>
                <a:latin typeface="Tahoma"/>
              </a:rPr>
              <a:t>S means more diso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THE EFFECT OF THE SIGNS OF </a:t>
            </a:r>
            <a:r>
              <a:rPr b="1" lang="en-US" sz="40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H and </a:t>
            </a:r>
            <a:r>
              <a:rPr b="1" lang="en-US" sz="40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S ON SPONTANEOUS CHANGE: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304920" y="2222640"/>
          <a:ext cx="8839080" cy="4635360"/>
        </p:xfrm>
        <a:graphic>
          <a:graphicData uri="http://schemas.openxmlformats.org/drawingml/2006/table">
            <a:tbl>
              <a:tblPr/>
              <a:tblGrid>
                <a:gridCol w="1668240"/>
                <a:gridCol w="4002120"/>
                <a:gridCol w="3168720"/>
              </a:tblGrid>
              <a:tr h="112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1c94d"/>
                          </a:solidFill>
                          <a:latin typeface="Comic Sans MS"/>
                        </a:rPr>
                        <a:t>SITU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1c94d"/>
                          </a:solidFill>
                          <a:latin typeface="Comic Sans MS"/>
                        </a:rPr>
                        <a:t>SIGNS OF   </a:t>
                      </a:r>
                      <a:r>
                        <a:rPr b="1" lang="en-US" sz="1800" spc="-1" strike="noStrike">
                          <a:solidFill>
                            <a:srgbClr val="91c94d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US" sz="1800" spc="-1" strike="noStrike">
                          <a:solidFill>
                            <a:srgbClr val="91c94d"/>
                          </a:solidFill>
                          <a:latin typeface="Comic Sans MS"/>
                        </a:rPr>
                        <a:t>H   AND   </a:t>
                      </a:r>
                      <a:r>
                        <a:rPr b="1" lang="en-US" sz="1800" spc="-1" strike="noStrike">
                          <a:solidFill>
                            <a:srgbClr val="91c94d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US" sz="1800" spc="-1" strike="noStrike">
                          <a:solidFill>
                            <a:srgbClr val="91c94d"/>
                          </a:solidFill>
                          <a:latin typeface="Comic Sans MS"/>
                        </a:rPr>
                        <a:t>S</a:t>
                      </a:r>
                      <a:r>
                        <a:rPr b="1" lang="en-US" sz="1800" spc="-1" strike="noStrike">
                          <a:solidFill>
                            <a:srgbClr val="91c94d"/>
                          </a:solidFill>
                          <a:latin typeface="Comic Sans MS"/>
                        </a:rPr>
                        <a:t>	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1c94d"/>
                          </a:solidFill>
                          <a:latin typeface="Comic Sans MS"/>
                        </a:rPr>
                        <a:t>       </a:t>
                      </a:r>
                      <a:r>
                        <a:rPr b="1" lang="en-US" sz="1800" spc="-1" strike="noStrike">
                          <a:solidFill>
                            <a:srgbClr val="91c94d"/>
                          </a:solidFill>
                          <a:latin typeface="Comic Sans MS"/>
                        </a:rPr>
                        <a:t>COM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 =  -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 = 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cc66"/>
                          </a:solidFill>
                          <a:latin typeface="Comic Sans MS"/>
                        </a:rPr>
                        <a:t>Reaction occu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 = +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 = 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cc66"/>
                          </a:solidFill>
                          <a:latin typeface="Comic Sans MS"/>
                        </a:rPr>
                        <a:t>Reaction doesn’t occu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 = + 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 = +         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 = -  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 = 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cc66"/>
                          </a:solidFill>
                          <a:latin typeface="Comic Sans MS"/>
                        </a:rPr>
                        <a:t>Consult Gibb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ibbs Free Energ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 sign of the value for Gibbs Free Energy tells u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+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G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eaction </a:t>
            </a:r>
            <a:r>
              <a:rPr b="1" lang="en-US" sz="3200" spc="-1" strike="noStrike">
                <a:solidFill>
                  <a:srgbClr val="91c94d"/>
                </a:solidFill>
                <a:latin typeface="Tahoma"/>
              </a:rPr>
              <a:t>is not spontaneo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G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eaction </a:t>
            </a:r>
            <a:r>
              <a:rPr b="1" lang="en-US" sz="3200" spc="-1" strike="noStrike">
                <a:solidFill>
                  <a:srgbClr val="91c94d"/>
                </a:solidFill>
                <a:latin typeface="Tahoma"/>
              </a:rPr>
              <a:t>is spontaneo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G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Tahoma"/>
              </a:rPr>
              <a:t>rxn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= [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G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]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ahoma"/>
              </a:rPr>
              <a:t>products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-  [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G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]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ahoma"/>
              </a:rPr>
              <a:t>reacta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G  =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H  -  T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S     (temp in kelvin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5791320"/>
            <a:ext cx="8534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1c94d"/>
                </a:solidFill>
                <a:latin typeface="Tahoma"/>
              </a:rPr>
              <a:t>Notice the language “is not spontaneous” and “is spontaneous”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1c94d"/>
                </a:solidFill>
                <a:latin typeface="Tahoma"/>
              </a:rPr>
              <a:t>                                           </a:t>
            </a:r>
            <a:r>
              <a:rPr b="1" lang="en-US" sz="1800" spc="-1" strike="noStrike">
                <a:solidFill>
                  <a:srgbClr val="91c94d"/>
                </a:solidFill>
                <a:latin typeface="Tahoma"/>
              </a:rPr>
              <a:t>This is definitiv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ibbs Free Energy Proble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e:    Pb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ahoma"/>
              </a:rPr>
              <a:t>(s)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+   ½ 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ahoma"/>
              </a:rPr>
              <a:t>2(g)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b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ahoma"/>
              </a:rPr>
              <a:t>(s)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i="1" lang="en-US" sz="3200" spc="-1" strike="noStrike" baseline="30000">
                <a:solidFill>
                  <a:srgbClr val="ffffff"/>
                </a:solidFill>
                <a:latin typeface="Tahoma"/>
              </a:rPr>
              <a:t>o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Tahoma"/>
              </a:rPr>
              <a:t>rxn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=  -215 kJ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1" i="1" lang="en-US" sz="3200" spc="-1" strike="noStrike" baseline="30000">
                <a:solidFill>
                  <a:srgbClr val="ffffff"/>
                </a:solidFill>
                <a:latin typeface="Tahoma"/>
              </a:rPr>
              <a:t>o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Tahoma"/>
              </a:rPr>
              <a:t>rxn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=  -0.092 kJ/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s the rxn spontaneou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G  =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-215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[(298 K) (-0.092kJ/K]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G  =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-188 kJ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yes, the rxn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is spontaneo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gain, it doesn’t just say “favors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6934320" y="2209680"/>
            <a:ext cx="2209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1c94d"/>
                </a:solidFill>
                <a:latin typeface="Tahoma"/>
              </a:rPr>
              <a:t>Remember:  This means at “standard”, which for temp, is 25</a:t>
            </a:r>
            <a:r>
              <a:rPr b="0" i="1" lang="en-US" sz="1800" spc="-1" strike="noStrike" baseline="30000">
                <a:solidFill>
                  <a:srgbClr val="91c94d"/>
                </a:solidFill>
                <a:latin typeface="Tahoma"/>
              </a:rPr>
              <a:t>o</a:t>
            </a:r>
            <a:r>
              <a:rPr b="0" i="1" lang="en-US" sz="1800" spc="-1" strike="noStrike">
                <a:solidFill>
                  <a:srgbClr val="91c94d"/>
                </a:solidFill>
                <a:latin typeface="Tahoma"/>
              </a:rPr>
              <a:t>C or 298 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5486400" y="2895480"/>
            <a:ext cx="144792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Sign of </a:t>
            </a:r>
            <a:r>
              <a:rPr b="1" lang="en-US" sz="40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1" i="1" lang="en-US" sz="4000" spc="-1" strike="noStrike">
                <a:solidFill>
                  <a:srgbClr val="ffffcc"/>
                </a:solidFill>
                <a:latin typeface="Tahoma"/>
              </a:rPr>
              <a:t>G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5040360" y="1600200"/>
          <a:ext cx="3254400" cy="21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0360" y="1600200"/>
                    <a:ext cx="3254400" cy="21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609480" y="1828800"/>
          <a:ext cx="8076960" cy="4267080"/>
        </p:xfrm>
        <a:graphic>
          <a:graphicData uri="http://schemas.openxmlformats.org/drawingml/2006/table">
            <a:tbl>
              <a:tblPr/>
              <a:tblGrid>
                <a:gridCol w="1483560"/>
                <a:gridCol w="6593400"/>
              </a:tblGrid>
              <a:tr h="213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action </a:t>
                      </a:r>
                      <a:r>
                        <a:rPr b="1" i="1" lang="en-US" sz="4000" spc="-1" strike="noStrike">
                          <a:solidFill>
                            <a:srgbClr val="91c94d"/>
                          </a:solidFill>
                          <a:latin typeface="Tahoma"/>
                        </a:rPr>
                        <a:t>Does not Occur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3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action </a:t>
                      </a:r>
                      <a:r>
                        <a:rPr b="1" i="1" lang="en-US" sz="4000" spc="-1" strike="noStrike">
                          <a:solidFill>
                            <a:srgbClr val="91c94d"/>
                          </a:solidFill>
                          <a:latin typeface="Tahoma"/>
                        </a:rPr>
                        <a:t>Occurs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ond Energ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change in enthalpy when a chemical rxn occurs is due primarily to the </a:t>
            </a:r>
            <a:r>
              <a:rPr b="1" i="1" lang="en-US" sz="2800" spc="-1" strike="noStrike">
                <a:solidFill>
                  <a:srgbClr val="91c94d"/>
                </a:solidFill>
                <a:latin typeface="Tahoma"/>
              </a:rPr>
              <a:t>energy required to break the chemical bonds in reactant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and the </a:t>
            </a:r>
            <a:r>
              <a:rPr b="1" i="1" lang="en-US" sz="2800" spc="-1" strike="noStrike">
                <a:solidFill>
                  <a:srgbClr val="ffffcc"/>
                </a:solidFill>
                <a:latin typeface="Tahoma"/>
              </a:rPr>
              <a:t>energy produced by forming the chemical bonds in the product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(breaking of bond = "bond dissociation"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ll bond dissociations are </a:t>
            </a:r>
            <a:r>
              <a:rPr b="1" lang="en-US" sz="2800" spc="-1" strike="noStrike">
                <a:solidFill>
                  <a:srgbClr val="66ccff"/>
                </a:solidFill>
                <a:latin typeface="Tahoma"/>
              </a:rPr>
              <a:t>ENDOthermic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because energy must be supplied to break bonds; therefore, </a:t>
            </a:r>
            <a:r>
              <a:rPr b="1" lang="en-US" sz="2800" spc="-1" strike="noStrike">
                <a:solidFill>
                  <a:srgbClr val="ffcc66"/>
                </a:solidFill>
                <a:latin typeface="Tahoma"/>
              </a:rPr>
              <a:t>all BE's are + valu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eneral Inform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"Thermodynamics"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, is the study of the energy changes or transfers accompanying physical and chemical proces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helps us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predict whether a rxn will occur under certain condi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DO NOT ASSUME THAT ALL REACTIONS HAPPEN AUTOMATICALLY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actions and Bond Energ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BE</a:t>
            </a:r>
            <a:r>
              <a:rPr b="1" i="1" lang="en-US" sz="3200" spc="-1" strike="noStrike" baseline="-25000">
                <a:solidFill>
                  <a:srgbClr val="ffcc66"/>
                </a:solidFill>
                <a:latin typeface="Tahoma"/>
              </a:rPr>
              <a:t>rxn</a:t>
            </a:r>
            <a:r>
              <a:rPr b="1" i="1" lang="en-US" sz="32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= [</a:t>
            </a:r>
            <a:r>
              <a:rPr b="1" lang="en-US" sz="3200" spc="-1" strike="noStrike">
                <a:solidFill>
                  <a:srgbClr val="ffcc66"/>
                </a:solidFill>
                <a:latin typeface="Symbol"/>
                <a:ea typeface="Symbol"/>
              </a:rPr>
              <a:t></a:t>
            </a: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ffcc66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BE ]</a:t>
            </a:r>
            <a:r>
              <a:rPr b="1" lang="en-US" sz="3200" spc="-1" strike="noStrike" baseline="-25000">
                <a:solidFill>
                  <a:srgbClr val="ffcc66"/>
                </a:solidFill>
                <a:latin typeface="Tahoma"/>
              </a:rPr>
              <a:t>reactants </a:t>
            </a: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- [</a:t>
            </a:r>
            <a:r>
              <a:rPr b="1" lang="en-US" sz="3200" spc="-1" strike="noStrike">
                <a:solidFill>
                  <a:srgbClr val="ffcc66"/>
                </a:solidFill>
                <a:latin typeface="Symbol"/>
                <a:ea typeface="Symbol"/>
              </a:rPr>
              <a:t></a:t>
            </a: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ffcc66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BE]</a:t>
            </a:r>
            <a:r>
              <a:rPr b="1" lang="en-US" sz="3200" spc="-1" strike="noStrike" baseline="-25000">
                <a:solidFill>
                  <a:srgbClr val="ffcc66"/>
                </a:solidFill>
                <a:latin typeface="Tahoma"/>
              </a:rPr>
              <a:t>produc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 sign of the value for Bond Energy are related to enthalpy of formation, so the same information is giv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Factors that Contribute to Bond Strength: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c94d"/>
                </a:solidFill>
                <a:latin typeface="Tahoma"/>
              </a:rPr>
              <a:t>1) polarity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- a polar bond is stronger than nonpolar - in general, the &gt; the diff in e.n. b/w bonded atoms,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e more polar the bond &amp; the &gt; the 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c94d"/>
                </a:solidFill>
                <a:latin typeface="Tahoma"/>
              </a:rPr>
              <a:t>2) # of e- pairs b/w bonded atoms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- multiple bonds have &gt; BE than single bon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c94d"/>
                </a:solidFill>
                <a:latin typeface="Tahoma"/>
              </a:rPr>
              <a:t>3) Effects related to sizes of atoms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-  If nuclei cannot come very close together, shared e- pair will not be effective in bonding them. Far from nucleus bond will be weak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alculate Enthalpy with B.E.’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ahoma"/>
              </a:rPr>
              <a:t>STEP 1 – You must know the B.C.E.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2 ClF</a:t>
            </a:r>
            <a:r>
              <a:rPr b="1" lang="en-US" sz="2400" spc="-1" strike="noStrike" baseline="-25000">
                <a:solidFill>
                  <a:srgbClr val="ffffcc"/>
                </a:solidFill>
                <a:latin typeface="Tahoma"/>
              </a:rPr>
              <a:t>3(g)</a:t>
            </a: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  + 2O</a:t>
            </a:r>
            <a:r>
              <a:rPr b="1" lang="en-US" sz="2400" spc="-1" strike="noStrike" baseline="-25000">
                <a:solidFill>
                  <a:srgbClr val="ffffcc"/>
                </a:solidFill>
                <a:latin typeface="Tahoma"/>
              </a:rPr>
              <a:t>2(g)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91c94d"/>
                </a:solidFill>
                <a:latin typeface="Tahoma"/>
              </a:rPr>
              <a:t>Cl</a:t>
            </a:r>
            <a:r>
              <a:rPr b="1" lang="en-US" sz="2400" spc="-1" strike="noStrike" baseline="-25000">
                <a:solidFill>
                  <a:srgbClr val="91c94d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91c94d"/>
                </a:solidFill>
                <a:latin typeface="Tahoma"/>
              </a:rPr>
              <a:t>O</a:t>
            </a:r>
            <a:r>
              <a:rPr b="1" lang="en-US" sz="2400" spc="-1" strike="noStrike" baseline="-25000">
                <a:solidFill>
                  <a:srgbClr val="91c94d"/>
                </a:solidFill>
                <a:latin typeface="Tahoma"/>
              </a:rPr>
              <a:t>(g)</a:t>
            </a:r>
            <a:r>
              <a:rPr b="1" lang="en-US" sz="2400" spc="-1" strike="noStrike">
                <a:solidFill>
                  <a:srgbClr val="91c94d"/>
                </a:solidFill>
                <a:latin typeface="Tahoma"/>
              </a:rPr>
              <a:t>  +  3OF</a:t>
            </a:r>
            <a:r>
              <a:rPr b="1" lang="en-US" sz="2400" spc="-1" strike="noStrike" baseline="-25000">
                <a:solidFill>
                  <a:srgbClr val="91c94d"/>
                </a:solidFill>
                <a:latin typeface="Tahoma"/>
              </a:rPr>
              <a:t>2(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cc66"/>
                </a:solidFill>
                <a:uFillTx/>
                <a:latin typeface="Tahoma"/>
              </a:rPr>
              <a:t>STEP 2 – Draw the molecules involved, with the correct numbers and types of bond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cc66"/>
                </a:solidFill>
                <a:uFillTx/>
                <a:latin typeface="Tahoma"/>
              </a:rPr>
              <a:t>STEP 3 – Look up Bond Energies for each.  Remember, the BE formula has Reactants before products, not like </a:t>
            </a:r>
            <a:r>
              <a:rPr b="1" lang="en-US" sz="1800" spc="-1" strike="noStrike" u="sng">
                <a:solidFill>
                  <a:srgbClr val="ffcc66"/>
                </a:solidFill>
                <a:uFillTx/>
                <a:latin typeface="Symbol"/>
                <a:ea typeface="Symbol"/>
              </a:rPr>
              <a:t></a:t>
            </a:r>
            <a:r>
              <a:rPr b="1" lang="en-US" sz="1800" spc="-1" strike="noStrike" u="sng">
                <a:solidFill>
                  <a:srgbClr val="ffcc66"/>
                </a:solidFill>
                <a:uFillTx/>
                <a:latin typeface="Tahoma"/>
              </a:rPr>
              <a:t>H, </a:t>
            </a:r>
            <a:r>
              <a:rPr b="1" lang="en-US" sz="1800" spc="-1" strike="noStrike" u="sng">
                <a:solidFill>
                  <a:srgbClr val="ffcc66"/>
                </a:solidFill>
                <a:uFillTx/>
                <a:latin typeface="Symbol"/>
                <a:ea typeface="Symbol"/>
              </a:rPr>
              <a:t></a:t>
            </a:r>
            <a:r>
              <a:rPr b="1" lang="en-US" sz="1800" spc="-1" strike="noStrike" u="sng">
                <a:solidFill>
                  <a:srgbClr val="ffcc66"/>
                </a:solidFill>
                <a:uFillTx/>
                <a:latin typeface="Tahoma"/>
              </a:rPr>
              <a:t>S, </a:t>
            </a:r>
            <a:r>
              <a:rPr b="1" lang="en-US" sz="1800" spc="-1" strike="noStrike" u="sng">
                <a:solidFill>
                  <a:srgbClr val="ffcc66"/>
                </a:solidFill>
                <a:uFillTx/>
                <a:latin typeface="Symbol"/>
                <a:ea typeface="Symbol"/>
              </a:rPr>
              <a:t></a:t>
            </a:r>
            <a:r>
              <a:rPr b="1" lang="en-US" sz="1800" spc="-1" strike="noStrike" u="sng">
                <a:solidFill>
                  <a:srgbClr val="ffcc66"/>
                </a:solidFill>
                <a:uFillTx/>
                <a:latin typeface="Tahoma"/>
              </a:rPr>
              <a:t>G formulas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2(3*255)  + 2(498)</a:t>
            </a:r>
            <a:r>
              <a:rPr b="1" lang="en-US" sz="2400" spc="-1" strike="noStrike">
                <a:solidFill>
                  <a:srgbClr val="ffcc66"/>
                </a:solidFill>
                <a:latin typeface="Tahoma"/>
              </a:rPr>
              <a:t>  +  </a:t>
            </a:r>
            <a:r>
              <a:rPr b="1" lang="en-US" sz="2400" spc="-1" strike="noStrike">
                <a:solidFill>
                  <a:srgbClr val="91c94d"/>
                </a:solidFill>
                <a:latin typeface="Tahoma"/>
              </a:rPr>
              <a:t>2 (-205)  +  3(2*-184)</a:t>
            </a:r>
            <a:r>
              <a:rPr b="1" lang="en-US" sz="2400" spc="-1" strike="noStrike">
                <a:solidFill>
                  <a:srgbClr val="ffcc66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Tahoma"/>
              </a:rPr>
              <a:t>=  1012 kJ = </a:t>
            </a:r>
            <a:r>
              <a:rPr b="1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ffcc66"/>
                </a:solidFill>
                <a:latin typeface="Tahoma"/>
              </a:rPr>
              <a:t>H</a:t>
            </a:r>
            <a:r>
              <a:rPr b="1" i="1" lang="en-US" sz="2400" spc="-1" strike="noStrike" baseline="-25000">
                <a:solidFill>
                  <a:srgbClr val="ffcc66"/>
                </a:solidFill>
                <a:latin typeface="Tahoma"/>
              </a:rPr>
              <a:t>rx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523880" y="3276720"/>
            <a:ext cx="6629400" cy="13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pontane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"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pontaneous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" - a process can occur (not necessarily fas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"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non-spontaneous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" - a process cannot occu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eneral Inform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5410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any spontaneous rxns release heat energy = "exothermic"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oducts have less E than reactants ("downhill") (see diagra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ome rxns absorb energy = "endothermic" = products have more energy than the reactants ("uphill") (see diagram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9920" y="1676520"/>
            <a:ext cx="28764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495680" y="289512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ndothermic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4390920" cy="29048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800600" y="3733920"/>
            <a:ext cx="4172040" cy="29811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52280"/>
            <a:ext cx="4648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xotherm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29200" y="304920"/>
            <a:ext cx="4343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Tahoma"/>
              </a:rPr>
              <a:t>E</a:t>
            </a:r>
            <a:r>
              <a:rPr b="1" i="1" lang="en-US" sz="2400" spc="-1" strike="noStrike" baseline="-25000">
                <a:solidFill>
                  <a:srgbClr val="ffcc66"/>
                </a:solidFill>
                <a:latin typeface="Tahoma"/>
              </a:rPr>
              <a:t>a</a:t>
            </a:r>
            <a:r>
              <a:rPr b="1" i="1" lang="en-US" sz="2400" spc="-1" strike="noStrike">
                <a:solidFill>
                  <a:srgbClr val="ffcc66"/>
                </a:solidFill>
                <a:latin typeface="Tahoma"/>
              </a:rPr>
              <a:t> = Activation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00600" y="1143000"/>
            <a:ext cx="350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 = E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1752480"/>
            <a:ext cx="4343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 = E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ahoma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for reverse re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00600" y="2438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 = enthalpy 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057400" y="1371600"/>
            <a:ext cx="2819520" cy="685800"/>
          </a:xfrm>
          <a:prstGeom prst="line">
            <a:avLst/>
          </a:prstGeom>
          <a:ln w="38160">
            <a:solidFill>
              <a:srgbClr val="91c9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52480" y="1828800"/>
            <a:ext cx="152640" cy="457200"/>
          </a:xfrm>
          <a:prstGeom prst="ellipse">
            <a:avLst/>
          </a:prstGeom>
          <a:solidFill>
            <a:srgbClr val="91c94d">
              <a:alpha val="3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962520" y="1981080"/>
            <a:ext cx="838080" cy="4572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505320" y="1828800"/>
            <a:ext cx="228600" cy="1371600"/>
          </a:xfrm>
          <a:prstGeom prst="ellipse">
            <a:avLst/>
          </a:prstGeom>
          <a:solidFill>
            <a:srgbClr val="ff3300">
              <a:alpha val="2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133720" y="2666880"/>
            <a:ext cx="2666880" cy="7632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52480" y="2286000"/>
            <a:ext cx="152640" cy="914400"/>
          </a:xfrm>
          <a:prstGeom prst="ellipse">
            <a:avLst/>
          </a:prstGeom>
          <a:solidFill>
            <a:srgbClr val="0066ff">
              <a:alpha val="3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eneral Inform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ot all exothermic rxns are spontaneous; not all spontaneous rxns are exothermic,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so some other factor must influence spontane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our Laws of Thermodynamic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33520" y="1600200"/>
          <a:ext cx="8153280" cy="4876920"/>
        </p:xfrm>
        <a:graphic>
          <a:graphicData uri="http://schemas.openxmlformats.org/drawingml/2006/table">
            <a:tbl>
              <a:tblPr/>
              <a:tblGrid>
                <a:gridCol w="1676160"/>
                <a:gridCol w="6477120"/>
              </a:tblGrid>
              <a:tr h="115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Zeroth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w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f T</a:t>
                      </a:r>
                      <a:r>
                        <a:rPr b="1" lang="en-US" sz="28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= T</a:t>
                      </a:r>
                      <a:r>
                        <a:rPr b="1" lang="en-US" sz="28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and T</a:t>
                      </a:r>
                      <a:r>
                        <a:rPr b="1" lang="en-US" sz="28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= T</a:t>
                      </a:r>
                      <a:r>
                        <a:rPr b="1" lang="en-US" sz="28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then T</a:t>
                      </a:r>
                      <a:r>
                        <a:rPr b="1" lang="en-US" sz="28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= T</a:t>
                      </a:r>
                      <a:r>
                        <a:rPr b="1" lang="en-US" sz="28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rst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w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nservation of energ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cond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w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ou can't get something from nothing; in fact, you can't even break ev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hird Law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hen there is no motion &amp; perfect arrangement,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	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here is no disorder, such as at absolute ze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nthalp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H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=  heat content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Tahoma"/>
              </a:rPr>
              <a:t>f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= heat of form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Tahoma"/>
              </a:rPr>
              <a:t>rxn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= heat of reaction (which is the sum of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i="1" lang="en-US" sz="3200" spc="-1" strike="noStrike" baseline="30000">
                <a:solidFill>
                  <a:srgbClr val="ffffff"/>
                </a:solidFill>
                <a:latin typeface="Tahoma"/>
              </a:rPr>
              <a:t>o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= the "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" means that conditions are at standard, which for thermodynamics is at 25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ahoma"/>
              </a:rPr>
              <a:t>o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 and 101.3 kP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ess’ Law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Tahoma"/>
              </a:rPr>
              <a:t>rxn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= [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Tahoma"/>
              </a:rPr>
              <a:t>f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]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ahoma"/>
              </a:rPr>
              <a:t>product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-  [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Tahoma"/>
              </a:rPr>
              <a:t>f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]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ahoma"/>
              </a:rPr>
              <a:t>reactant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nsult a Thermodynamics chart; be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careful of the units and phase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(s, cr, l, aq, 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e:          2N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ahoma"/>
              </a:rPr>
              <a:t>(g)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+      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ahoma"/>
              </a:rPr>
              <a:t>2(g)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2N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ahoma"/>
              </a:rPr>
              <a:t>2(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2(+90.25kJ/mol)                0                   2(+33.18kJ/mol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2(-90.25kJ/mol)                                   +  2(+33.18kJ/mol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-180.5kJ/mol                                          +  66.36kJ/mol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ahoma"/>
              </a:rPr>
              <a:t>=  -114.1kJ/mol  =  </a:t>
            </a:r>
            <a:r>
              <a:rPr b="1" lang="en-US" sz="2800" spc="-1" strike="noStrike">
                <a:solidFill>
                  <a:srgbClr val="ffcc66"/>
                </a:solidFill>
                <a:latin typeface="Symbol"/>
                <a:ea typeface="Symbol"/>
              </a:rPr>
              <a:t></a:t>
            </a:r>
            <a:r>
              <a:rPr b="1" i="1" lang="en-US" sz="2800" spc="-1" strike="noStrike">
                <a:solidFill>
                  <a:srgbClr val="ffcc66"/>
                </a:solidFill>
                <a:latin typeface="Tahoma"/>
              </a:rPr>
              <a:t>H</a:t>
            </a:r>
            <a:r>
              <a:rPr b="1" i="1" lang="en-US" sz="2800" spc="-1" strike="noStrike" baseline="-25000">
                <a:solidFill>
                  <a:srgbClr val="ffcc66"/>
                </a:solidFill>
                <a:latin typeface="Tahoma"/>
              </a:rPr>
              <a:t>rx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6172200"/>
            <a:ext cx="88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1c94d"/>
                </a:solidFill>
                <a:latin typeface="Tahoma"/>
              </a:rPr>
              <a:t>And since this is a negative value, it is an EXOTHERMIC REACTION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62520" y="48006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1c94d"/>
                </a:solidFill>
                <a:latin typeface="Tahoma"/>
              </a:rPr>
              <a:t>Why is this zer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5028840" y="4267080"/>
            <a:ext cx="2286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45720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sum of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76520" y="762120"/>
            <a:ext cx="53316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1981080"/>
            <a:ext cx="53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efficients from the B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2514600" y="1752120"/>
            <a:ext cx="7632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23:24:10Z</dcterms:created>
  <dc:creator>andreskim</dc:creator>
  <dc:description/>
  <dc:language>en-US</dc:language>
  <cp:lastModifiedBy>jluckey</cp:lastModifiedBy>
  <dcterms:modified xsi:type="dcterms:W3CDTF">2010-04-13T15:14:21Z</dcterms:modified>
  <cp:revision>139</cp:revision>
  <dc:subject/>
  <dc:title>NOTES - PERIODIC TABLE &amp; TRENDS I. CHEMICAL PERIODICITY  "the variation in prop's of elem's w/ their positions in the per. t"</dc:title>
</cp:coreProperties>
</file>